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5796-0C5D-46C6-8D83-B4F805F38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572F-58DF-46C5-847E-6990A777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D5AF-2CEA-4488-89BE-5AC06F84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3E0B-E0BC-4479-82A3-BA5F45B59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974B-3BB9-4A5D-AA6B-F12E2EB8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B975-D9D7-4E07-AFE6-7EF27A8A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ACF8-A678-4A5D-A78C-9D84A8AF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CEFA-70B1-44B0-9051-FC9C2E60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D13E-D7A2-48DC-872E-17522AE1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186F-02BD-4ADD-9445-2AEC7FC0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ABAD-86D1-496C-AB76-ED3484A7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E772-547B-467D-86E8-9D90FD4D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DBC5-BFC0-4AE0-9128-5573358D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82B9-3488-42E5-B641-78201D54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3384-4490-432C-91D6-7581EB6E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072A-54E8-4872-A16F-DC16BA169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3962-AC4A-4D7C-A129-67B4C5D2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D236-7B4C-49B8-A183-1FF3DCE4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CB73-9C74-4DAE-AF94-5B24C497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0DEF-ADE0-4327-BF82-1FDE1897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136C-D57D-40DF-9615-43CA2756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80B2-6679-4364-A2CB-A0A85684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9634-CFF3-4287-BAD4-644FCB00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66CE-2203-45A8-B540-63A78707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BABA-5A4B-4D7D-9441-BDDBB56B8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6080-9664-4D12-ACC7-8B3BBDB5FC5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第四章  保险承保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个人健康保险业务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健康状况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逆选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道德风险因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性别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工作经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生活习惯和生活方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个人意外伤害保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危险爱好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身体健康状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金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四、团体保险业务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新业务的核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团体的资格、团体的规模、团体成员的投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资格、团体的业务性质、参保率、团体成员的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动率、保险金额的确定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续保业务的核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团体的理赔经验、参保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五、财产保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性能或构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用途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环境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重要防护部位及防护措施状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检验有无正处于危险状态中的财产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检查各项安全管理制度的制定和执行情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四节  保险合同的保全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全的内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全的意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三、保全服务的内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单保全服务的基本作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附加价值服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咨询与投诉服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核保  续保  道德风险  心理风险保全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获取承保信息的主要渠道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核保中事前选择和事后选择的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道德风险 ？如何控制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心理风险？如何控制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个人寿险和团体寿险的核保要素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财产保险的核保要素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单保全服务的基本作业的内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一节  保险承保的基本程序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制定承保方针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获取和评价承保信息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主要渠道：投保单、中介人及其经营业绩、体检报告、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地区销售经理、消费者调查报告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审查核保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作出承保决定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五、单证管理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六、续保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二节  承保选择与承保控制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核保的概念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核保是指保险公司对可保风险进行评判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分类，进而决定是否承保、以什么样的条件承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分析过程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核保的内容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核保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事前核保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投保人或被保险人的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标的及其利益的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事后核保选择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核保控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控制道德风险的主要措施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控制保险金额，避免高额保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控制赔偿程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控制心理风险的主要措施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定免赔额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定共同保险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单中订入保证条款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4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续保优惠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5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其他优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三节  核保要素分析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个人寿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同健康有关的风险因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体格、 既往症、现症、家庭病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同健康无关的风险因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、习惯或嗜好、道德风险因素、财务状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31:05Z</dcterms:modified>
  <cp:revision>22</cp:revision>
  <dc:subject/>
  <dc:title>没有幻灯片标题</dc:title>
</cp:coreProperties>
</file>